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C20-59E3-4863-9992-225CF9CE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609-908C-43E0-9476-8F83367E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CF0-F114-4556-ADC4-FD311638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7AD-BD30-4F9B-A1EB-3CFCD675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754-A0EC-411A-9C1D-6C6143A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F9C-2932-4E61-B889-ABCFE69D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2FD-5F12-4D53-973E-13C0FD98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FAE-4FE0-4B34-ADBB-C20D339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CB0-748C-48A0-B7EC-42D14202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A97-FB10-4173-9D1D-5E224BC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6C7-BC8F-4B92-976D-C850299C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F21-2A14-43AF-9C23-AC8C49B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B341-58B3-4499-B53C-5C4EB6273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rctic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ly cold winters and mild summer, Russia is a very cold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ussia, the usual temperature in the winter is 9-21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snows in Russia, in most places, the snow doesn’t melt for 200-240 day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ussai, there is a place that has a steppe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3720" y="380880"/>
            <a:ext cx="4952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ppe 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744280"/>
            <a:ext cx="5029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to hot dry summers and (very) cold winters with temperatures of -30°C and lower and sometimes heavy snowfall. sometimes very strong easterly winds,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r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occur, bringing freezing cold temperatures and snowst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9:04:03Z</dcterms:created>
  <dc:creator> </dc:creator>
  <dc:description/>
  <dc:language>en-US</dc:language>
  <cp:lastModifiedBy> </cp:lastModifiedBy>
  <dcterms:modified xsi:type="dcterms:W3CDTF">2010-12-14T19:28:57Z</dcterms:modified>
  <cp:revision>2</cp:revision>
  <dc:subject/>
  <dc:title>Subarctic climate</dc:title>
</cp:coreProperties>
</file>